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2A8-A2C9-4493-B76A-DA8F824E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CBC-0E74-459C-900D-DE156BE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41E-F050-439E-876A-423A71D5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F16-6E15-4CA2-BD4B-C751CCCA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9B6-85D4-4E84-8678-9A1BE51C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79C5-834F-4849-8737-3BA2B55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B179-E915-4762-8A89-86E8DEC5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C201-A6DF-4CC4-AC6B-EE77E7B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B51-97F9-4851-92D7-8ACB676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3C8-9053-41CE-9917-9CAE032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4B91-2DFD-45A7-BC61-2A0B542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9C9-C157-4501-A60E-7F6EB9E6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B03-8DD2-4DDD-A0F0-8264977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AC12-E228-4598-A48D-8229DB4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BFCF-7A29-4F6E-9824-C45B513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DB9-B3F2-4AD6-99DE-6F590209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CF6F-2300-4EE5-8971-46B8B7EB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8A2-0F2D-410F-8873-34635A1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B00-A63C-4EB0-8F38-5AE47E9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44B-CABF-48A6-ADFE-D39F1B63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EDF-EF34-4B34-AF47-EBB3FDAE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130-982B-4345-A515-4C55F12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997-5F9F-418F-B453-811C4E3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D23-F68F-4166-A700-3DE2C94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5B57-0E17-41EA-9D18-4460162A9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02A-2239-492F-BA36-4B8F1D162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penparachute.files.wordpress.com/2008/07/intelligent_design.jpg" TargetMode="External"/><Relationship Id="rId2" Type="http://schemas.openxmlformats.org/officeDocument/2006/relationships/hyperlink" Target="http://ecochildsplay.com/files/2008/12/downschild2.j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Assessing Intelligence 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Jungna Park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굴림"/>
              </a:rPr>
              <a:t>How do we assess INTELLIGENCE?</a:t>
            </a:r>
            <a:endParaRPr b="0" lang="en-US" sz="4000" spc="-1" strike="noStrike">
              <a:solidFill>
                <a:srgbClr val="ffffc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026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Intelligence is whatever intelligence tests measur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59752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oday’s most widely used intelligence test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Wechsler Adult Intelligence Scale (WAIS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Wechsler Intelligence Scale for Children (WISC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reated by David Wechsler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Mental Retardation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32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cores below 70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Must have both a low test score and difficulties adapting to the normal demands of independent living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Only 1 percent of the popul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Down Syndrome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A disorder of varying severity caused by an extra chromosome in the person’s genetic make up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30848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Bibliography 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굴림"/>
                <a:hlinkClick r:id="rId1"/>
              </a:rPr>
              <a:t>http://openparachute.files.wordpress.com/2008/07/intelligent_design.jp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굴림"/>
                <a:hlinkClick r:id="rId2"/>
              </a:rPr>
              <a:t>http://ecochildsplay.com/files/2008/12/downschild2.jp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6:32:47Z</dcterms:created>
  <dc:creator>SMKim</dc:creator>
  <dc:description/>
  <dc:language>en-US</dc:language>
  <cp:lastModifiedBy>SMKim</cp:lastModifiedBy>
  <dcterms:modified xsi:type="dcterms:W3CDTF">2009-05-05T07:44:53Z</dcterms:modified>
  <cp:revision>7</cp:revision>
  <dc:subject/>
  <dc:title>Assessing Intelligence </dc:title>
</cp:coreProperties>
</file>